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59365"/>
        <c:axId val="89536938"/>
      </c:barChart>
      <c:catAx>
        <c:axId val="832593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36938"/>
        <c:crosses val="autoZero"/>
        <c:auto val="1"/>
        <c:lblAlgn val="ctr"/>
        <c:lblOffset val="100"/>
        <c:noMultiLvlLbl val="0"/>
      </c:catAx>
      <c:valAx>
        <c:axId val="89536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93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06E-B522-476F-9E1B-09005BAF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C95-2D50-49FA-A9CA-AC6FF096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5EB-372C-4D4A-B217-7ECA79C2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8C6-9221-4D4F-8414-899BCFFF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54F-8CC3-447D-A900-54764D5E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93D-0018-479F-81BA-E9EB1468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EFC-97B8-4DEA-9303-343DF3FA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D4C-A742-47B6-BD4F-231D1EEA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FB0-13F1-4160-A055-C07C9465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2F7-CDEC-40AB-804B-CCCD352B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C9C2-AD36-480E-9B4D-A63960A8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A2B-B676-43A4-81C7-61AFE22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8BA51-343B-4DB0-95A4-4B0CE9BF58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