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4363"/>
        <c:axId val="22348220"/>
      </c:barChart>
      <c:catAx>
        <c:axId val="4054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48220"/>
        <c:crosses val="autoZero"/>
        <c:auto val="1"/>
        <c:lblAlgn val="ctr"/>
        <c:lblOffset val="100"/>
        <c:noMultiLvlLbl val="0"/>
      </c:catAx>
      <c:valAx>
        <c:axId val="22348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4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270-E71C-43D7-B6B9-3D5AF2B0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3D5-42A5-4E07-B993-3A165F52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E35-395E-45AA-A94A-5F12FE2D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6C9-E251-472A-8D4E-EEED6ED8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8EE-FED4-4124-B4CC-3BD22F83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D3E-62E3-4557-9562-A3304B82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AF3-4E6C-4014-BBA1-2C762B46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096-B68A-4C2C-8420-DAB7F258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53D-020A-4D25-98A6-6A2BF33B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244-36E2-4BEE-B6F1-6B978F0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166-FB4D-4B27-8AED-2957C36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E61-1961-408C-B81C-38AD18F0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6C4CD-F696-4C2B-B567-E2711B8F4A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