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15316"/>
        <c:axId val="3762492"/>
      </c:barChart>
      <c:catAx>
        <c:axId val="36115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2492"/>
        <c:crosses val="autoZero"/>
        <c:auto val="1"/>
        <c:lblAlgn val="ctr"/>
        <c:lblOffset val="100"/>
        <c:noMultiLvlLbl val="0"/>
      </c:catAx>
      <c:valAx>
        <c:axId val="3762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15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072-42F9-4C69-82E8-FE596BAB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5F0-A454-4B0E-8132-408BC832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70D-2BB9-4E09-A28E-66618CED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192-CF64-4318-9E4B-908CB2A2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05F-1043-4C38-A728-A23137ED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FD3-B7DF-403E-B4B6-B257517A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59C-EBB7-4414-BD8B-DEBFA582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67D-C8A9-4891-BBE1-A87BB782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B16-FC62-4906-9837-CC399DCB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7AC-4A5A-4D42-915B-9B4EFC77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1B1-9A73-42DC-842A-23B315F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0E7-B71D-44E8-9859-FCD088CD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9A3DB-617A-44C3-AC53-6505D92428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