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228793"/>
        <c:axId val="32824646"/>
      </c:barChart>
      <c:catAx>
        <c:axId val="592287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24646"/>
        <c:crosses val="autoZero"/>
        <c:auto val="1"/>
        <c:lblAlgn val="ctr"/>
        <c:lblOffset val="100"/>
        <c:noMultiLvlLbl val="0"/>
      </c:catAx>
      <c:valAx>
        <c:axId val="32824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287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79D-B8BE-4C02-B978-9B775BB0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F926-B7ED-4A96-ADA7-36B26399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DFE-06A2-49A7-A11D-49EBE9FA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43A-557D-4B15-B125-91BFAB3B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B3D9-8991-445B-AEEB-DE08545C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320-A0A6-4C3F-9CB4-D8A09F1E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E3C-BDB4-4D7B-9BEA-930C79E7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C86-3EA0-4E7A-ACD3-17317645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E840-D807-40DE-9A7C-E54CFD16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699C-2433-4456-A9AF-1A0F98A0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4B8-EE5B-460A-9766-28DD7C08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FD50-A428-4404-A103-F5736C42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44AE6-0B51-4809-8729-07FF3523D8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