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56727"/>
        <c:axId val="11218231"/>
      </c:barChart>
      <c:catAx>
        <c:axId val="36856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18231"/>
        <c:crosses val="autoZero"/>
        <c:auto val="1"/>
        <c:lblAlgn val="ctr"/>
        <c:lblOffset val="100"/>
        <c:noMultiLvlLbl val="0"/>
      </c:catAx>
      <c:valAx>
        <c:axId val="11218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56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8E3-52B8-4D61-95CC-0BE9CF0A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C99-F4D8-45B9-BB19-593B1FD4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CF3-FFBF-4CA5-9AA0-E97E84E4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FF3-7140-430F-BB6E-49495643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4ED-D445-44A4-93BB-FB459379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6ED-9E84-4815-8267-D05FFF3F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51C-88C6-4DA8-BE7B-0EF2A76C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4A9-74AE-41E5-9E87-87738BA2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FA4-6111-4706-9F0B-1E379CFE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D1C-22A8-41C6-B154-07E7935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1E1-02A1-4762-8CDC-38CD1717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1B9-D314-406D-A0CD-DD79A571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347A7-08D4-4A87-99DE-7E5EDF8A2E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