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49608"/>
        <c:axId val="41450349"/>
      </c:barChart>
      <c:catAx>
        <c:axId val="39249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50349"/>
        <c:crosses val="autoZero"/>
        <c:auto val="1"/>
        <c:lblAlgn val="ctr"/>
        <c:lblOffset val="100"/>
        <c:noMultiLvlLbl val="0"/>
      </c:catAx>
      <c:valAx>
        <c:axId val="41450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49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8234-65FF-49E8-86E1-FC78342F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07A-881F-4E3E-96D6-AD7D2EF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213-7F08-4F25-9F20-B0B50B7A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3F7-058F-4B2F-BE3D-51F23E62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929-C69D-4AED-9CC1-50C3401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FF0-FCE1-4B9D-945D-F907DEF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4AC-9E48-4DE1-9A7D-B05C5C28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7FCD-F978-4423-B785-84DA623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73C-4257-45F3-A09F-2EA768D8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72F-0E9E-49B5-AF63-F4B24A8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424-9339-4010-A6DF-391CF49E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1E5-F1D2-4F7F-83F8-02CA0F6A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9B912-E05B-42B6-B3C3-3F69AFD6B5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