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92754"/>
        <c:axId val="9873191"/>
      </c:barChart>
      <c:catAx>
        <c:axId val="58592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3191"/>
        <c:crosses val="autoZero"/>
        <c:auto val="1"/>
        <c:lblAlgn val="ctr"/>
        <c:lblOffset val="100"/>
        <c:noMultiLvlLbl val="0"/>
      </c:catAx>
      <c:valAx>
        <c:axId val="9873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92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13E-9665-4EAE-93B5-3C160AFB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8EE-373A-4727-8C06-4C12BCF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B67-F05B-41AE-BB75-B71B0E5B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6FB-469B-4DF8-B68E-267C21B7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B10-B0AB-4501-A77E-B3E21E4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EED-0690-4D62-A439-52874FB4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092-868F-4ABA-8100-FF32505F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A46-B098-4A62-BC75-EAF1FF4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1B0-9DFF-49C2-B793-D8605929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6C7-B980-43AD-86CB-51D7FB4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019-D2D1-449E-94FE-0351ADB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C8A-FECD-4DC8-A6EC-DE357BF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2DE9-60D7-43D4-B86B-B9CBA25DC0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