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97995"/>
        <c:axId val="35927652"/>
      </c:barChart>
      <c:catAx>
        <c:axId val="42597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27652"/>
        <c:crosses val="autoZero"/>
        <c:auto val="1"/>
        <c:lblAlgn val="ctr"/>
        <c:lblOffset val="100"/>
        <c:noMultiLvlLbl val="0"/>
      </c:catAx>
      <c:valAx>
        <c:axId val="35927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97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295-D2CB-4736-A8D4-E0D95EB9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D48-A1D4-44B6-9D3C-6F714998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947-BE62-475B-BA30-8E92DF15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C3E-52CF-40C6-A686-4B0C6D03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82E-2FE5-48D0-A51A-E4841EE3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05F-7DAD-4987-81B2-4A9B2758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35B-16AC-446A-9AEE-0418F411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BBC-AC48-4A6A-9399-990BF7AB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A74-3C12-4E5D-B19C-BF3E04E9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867-6DF9-404A-821F-29081CE3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FFE-FD02-4FAF-BD49-8E15B408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E89-1E56-47CF-9691-C48CB7B9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59317-E48A-483E-BF40-632955EABC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