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80435"/>
        <c:axId val="5492494"/>
      </c:barChart>
      <c:catAx>
        <c:axId val="321804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2494"/>
        <c:crosses val="autoZero"/>
        <c:auto val="1"/>
        <c:lblAlgn val="ctr"/>
        <c:lblOffset val="100"/>
        <c:noMultiLvlLbl val="0"/>
      </c:catAx>
      <c:valAx>
        <c:axId val="5492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04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7705-3F6C-41B8-9BFB-71ABCA11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DE8-539C-47CA-A370-F730A993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39A-1F82-4D29-ADC2-FA5DEEDB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D9C-E832-4D88-9FB0-F403BB97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35B-FAC6-4308-B5A4-069D6075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39FE-9446-4C6A-9625-53E5CA7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E622-732B-4BD9-99C5-CC57059A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343-172A-436C-BF4A-2621F978D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547F-D360-409F-9A81-61BF49F2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89F-97F3-46EF-9F3D-8593043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172-D494-4181-A7CC-943297E8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90A-B9F3-489F-941A-6B2F9EA0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A9EFF-E4AC-4EB4-92B0-F04CF94AF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