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2100"/>
        <c:axId val="22846230"/>
      </c:barChart>
      <c:catAx>
        <c:axId val="5972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6230"/>
        <c:crosses val="autoZero"/>
        <c:auto val="1"/>
        <c:lblAlgn val="ctr"/>
        <c:lblOffset val="100"/>
        <c:noMultiLvlLbl val="0"/>
      </c:catAx>
      <c:valAx>
        <c:axId val="22846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223-A4D4-4933-A480-7AB91508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B18-D383-4554-8005-032876F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3EF-52A1-408F-A1B7-FD3DC394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75A-310C-45BE-9B04-F97F1C23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FF3-B98A-4F87-957F-B474DD0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F22-7F22-48C6-8105-FB81E099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6B5-D811-4064-811A-83E1B8C6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82A-8B08-4729-BFD9-6191D02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0B8-8939-497B-ABDD-1CC8CA8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051-8186-4222-A061-833DCF0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419-8029-43FB-9679-59DCD5F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ED6-336A-41C8-AFF1-FAF21D6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C8AE-6145-4775-BA4B-4CE7537D8B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