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24919"/>
        <c:axId val="79262056"/>
      </c:barChart>
      <c:catAx>
        <c:axId val="23624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62056"/>
        <c:crosses val="autoZero"/>
        <c:auto val="1"/>
        <c:lblAlgn val="ctr"/>
        <c:lblOffset val="100"/>
        <c:noMultiLvlLbl val="0"/>
      </c:catAx>
      <c:valAx>
        <c:axId val="79262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24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803-C06D-40A9-A9FE-5285E1AB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146-7137-4A70-B26B-23A4019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621-7F77-4E5E-97B3-A9FF6266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165-7AE6-4564-83AE-2640E13E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450-B353-4209-8C3F-CFD122B1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E5A-50C7-4427-9AB6-B2D1215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33F-C2A3-4AD5-9ACE-53B62651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6C1-5D46-4FBE-BA7D-693AA44A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BEE-24B5-477A-B9F9-67C6D904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B9D-C600-41CF-ABAA-E62E716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F92-761F-4E9B-BFC0-9A27974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BA0-EC9C-49D2-81EA-9FE8D65B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F472-562F-489B-A0D0-706B0F988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