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007867"/>
        <c:axId val="36476908"/>
      </c:barChart>
      <c:catAx>
        <c:axId val="150078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476908"/>
        <c:crosses val="autoZero"/>
        <c:auto val="1"/>
        <c:lblAlgn val="ctr"/>
        <c:lblOffset val="100"/>
        <c:noMultiLvlLbl val="0"/>
      </c:catAx>
      <c:valAx>
        <c:axId val="36476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078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E5A0-D0D7-47D0-9A20-6A2C0EAF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123F-0152-4FE9-9DBD-D9D36F9E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9EE-814E-4E65-83E1-9B42AE61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C2B-F472-473A-A685-DE87993C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5AE-FC74-46CF-AB3D-CC812CDC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D66-639E-4E00-9A04-C088BE215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3758-90CD-47B8-8BF7-4CBCD9B6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507F-F67A-46A1-B72F-632E2EEA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403-7D72-4B36-A342-47433E9E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87DD-CDF8-4209-B4A0-A1805EBC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4D72-2A41-41E6-A179-DCB1C6DF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202A-8264-407B-BFDD-722359D2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9D259-CD19-4005-B33B-76D1CF410B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