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45373"/>
        <c:axId val="29228780"/>
      </c:barChart>
      <c:catAx>
        <c:axId val="1724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8780"/>
        <c:crosses val="autoZero"/>
        <c:auto val="1"/>
        <c:lblAlgn val="ctr"/>
        <c:lblOffset val="100"/>
        <c:noMultiLvlLbl val="0"/>
      </c:catAx>
      <c:valAx>
        <c:axId val="29228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5E9-97D6-45C1-874E-18B2E785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B3B-221B-4891-9647-6E701139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154-7D65-4AAC-918C-BED9F04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6A7-C264-4BBB-8755-B2C405B6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1DB-06E8-4CCB-9BB4-BF7BDAE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E4D-82BB-47FA-82E5-903F7EF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A77-C780-4B96-B25E-9FA97E4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53C-D584-4146-8B6C-E3A294EF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1B1-AA6E-45CA-9E3C-E7B4D219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29C-30E3-4299-80B3-DD649FA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556-FEF4-4186-B068-280DF5D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F11-873D-4718-9394-66C0A98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D51E2-EC8C-4394-8D49-1DB2861B3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