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06400"/>
        <c:axId val="64025588"/>
      </c:barChart>
      <c:catAx>
        <c:axId val="31006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25588"/>
        <c:crosses val="autoZero"/>
        <c:auto val="1"/>
        <c:lblAlgn val="ctr"/>
        <c:lblOffset val="100"/>
        <c:noMultiLvlLbl val="0"/>
      </c:catAx>
      <c:valAx>
        <c:axId val="64025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06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D8B-BA8C-4D04-9B54-9DB14361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7A0-C745-411D-8FD8-D01ADFA0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265-BE02-4729-AAD7-A20F9D0A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57D-BACA-48D0-A8B9-58F7A010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B0C-661C-4F83-8076-77B2C63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DB9-E3A4-4F65-B781-0E8615D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F47-0371-4793-8F48-14FC2DF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36D-A181-4E8A-86CF-6CE2F087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EF5-98FA-40BA-93E1-F7D99AB4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476-35C2-4C00-ACB2-02CF5D4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11C-7787-4435-A936-6F7B055C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BD7-4352-4AFD-9518-37CAB16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0C3CF-B397-4061-AA82-2FFC537B6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