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559613"/>
        <c:axId val="59057628"/>
      </c:barChart>
      <c:catAx>
        <c:axId val="215596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057628"/>
        <c:crosses val="autoZero"/>
        <c:auto val="1"/>
        <c:lblAlgn val="ctr"/>
        <c:lblOffset val="100"/>
        <c:noMultiLvlLbl val="0"/>
      </c:catAx>
      <c:valAx>
        <c:axId val="590576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5596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5EB1-95FA-47B2-BC5D-BABF0D79F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4513-2B54-40E0-8FFE-C08BF118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97CA-521D-4C6E-8CB5-DDD5BCF82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8872-2D02-48E9-ABF2-4C899E694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2CB0-DCE3-4756-8046-287BFC0AF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3DE3-FD66-4B95-8FB0-EAB2A004C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0520-E9B0-4DA5-8C3A-6D31FC4F5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BA26-84A1-45F6-9A6D-43DF83087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74D8-35A3-4FB4-B1D3-56644C064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18BB-511C-4B01-BB78-C10008C7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5C41-EA55-4481-8309-9786C341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EF67-D7CB-4BD6-9E7D-61B6CBAE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71FB50-42CE-43D8-9B1B-4034457D9AA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