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85072"/>
        <c:axId val="3815928"/>
      </c:barChart>
      <c:catAx>
        <c:axId val="63285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5928"/>
        <c:crosses val="autoZero"/>
        <c:auto val="1"/>
        <c:lblAlgn val="ctr"/>
        <c:lblOffset val="100"/>
        <c:noMultiLvlLbl val="0"/>
      </c:catAx>
      <c:valAx>
        <c:axId val="3815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85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2FE-507E-4CDE-8705-E6EC15E6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626-A185-4B67-BD8C-8885EB81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B87-E488-464B-B520-1113C5D5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226-6B28-4EA6-B915-1C6FC90B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05B-8545-4B02-B9C9-24DA7441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976-04E2-4F5F-BB5B-B99E22F9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7FE-F321-487F-9D71-844C0368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DFA-C6C0-4595-A623-E11E8BD4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6E7-073F-4D99-A3FA-31D44794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13F-1460-4421-8C1E-1B3BD4E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EDE-205F-42B2-9B39-33982F0E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681-CB7A-46C2-8742-F06EDB9B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CE19E-4079-4581-B61E-90C7FCC461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