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78796"/>
        <c:axId val="70646088"/>
      </c:barChart>
      <c:catAx>
        <c:axId val="6078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46088"/>
        <c:crosses val="autoZero"/>
        <c:auto val="1"/>
        <c:lblAlgn val="ctr"/>
        <c:lblOffset val="100"/>
        <c:noMultiLvlLbl val="0"/>
      </c:catAx>
      <c:valAx>
        <c:axId val="70646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8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9654-F4EE-4F3C-A45C-D8CDCCAF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32A9-8C64-4473-A65D-B974DEF0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F72-76BE-4D9C-A8AC-0F5C2171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BA4A-CB1F-4612-95DD-65B2B20A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0FCE-8FB0-45D2-8724-67F08A3A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7D6A-DDFF-4535-AE87-6E1FA734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7617-04C1-4D3B-A2EF-5C634816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69C6-0F49-49B3-BBDC-861FC600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E001-33E3-43BC-B258-41A40ACD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B4D6-8932-4341-BC7A-134B167E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A337-7D26-41FF-9C06-5FC6A564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FE9-F002-4694-AAA2-A1C8A772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5169D-54C5-45B9-84B9-37467F8A11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