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3640"/>
        <c:axId val="76231273"/>
      </c:barChart>
      <c:catAx>
        <c:axId val="4723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1273"/>
        <c:crosses val="autoZero"/>
        <c:auto val="1"/>
        <c:lblAlgn val="ctr"/>
        <c:lblOffset val="100"/>
        <c:noMultiLvlLbl val="0"/>
      </c:catAx>
      <c:valAx>
        <c:axId val="76231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574-92C2-4596-BC92-8D8A62EE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B5A-D3B7-4B8B-9830-85FE8F7B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332-6B2B-4F8B-B1B7-0C95DC4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157-C8F7-4DA1-813E-31A4F385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27F-0EFC-41F5-A037-ACD0E35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843-4648-4E9B-A3D3-977B2CA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E09-E226-4B66-AC14-0B5392E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AE6-CE56-486F-A459-C734F8B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EBE-E582-4557-A62A-E5454FC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EA0-682E-4E0C-A983-BA8029E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1DF-2DDB-4F7F-AEC4-1DE5BBB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985-2A6B-4108-AE7E-AE9993C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FEE5F-7E68-4499-BEF2-871D46FB5A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