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53916"/>
        <c:axId val="94886563"/>
      </c:barChart>
      <c:catAx>
        <c:axId val="41153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6563"/>
        <c:crosses val="autoZero"/>
        <c:auto val="1"/>
        <c:lblAlgn val="ctr"/>
        <c:lblOffset val="100"/>
        <c:noMultiLvlLbl val="0"/>
      </c:catAx>
      <c:valAx>
        <c:axId val="94886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53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8A1-9410-4345-B799-2903BCA8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423-0141-4ADC-9525-205A1571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B12-2D2B-4474-8FFF-4CFF131C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0CF-5313-4FF1-833E-6CF5E610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128-0328-4948-870C-EEF203D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193-C040-444F-84F9-987DE8F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034-25AB-4238-9BD5-D9B422F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1DD-7EBF-438B-8B96-9AE0F231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F27-E14A-4711-86A0-AC7A6D4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1D9-B780-4676-A40D-8868D9C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2A9-B465-4AB0-B1AB-F761D8C8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F3E-F701-434D-AF1B-0AD7BDA2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5B713-18CC-4F48-A913-160667AAE4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