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74428"/>
        <c:axId val="58775523"/>
      </c:barChart>
      <c:catAx>
        <c:axId val="50474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75523"/>
        <c:crosses val="autoZero"/>
        <c:auto val="1"/>
        <c:lblAlgn val="ctr"/>
        <c:lblOffset val="100"/>
        <c:noMultiLvlLbl val="0"/>
      </c:catAx>
      <c:valAx>
        <c:axId val="58775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74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FD6-7736-4569-A6C6-93E6F068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BE5-6255-42EC-95CE-595749AF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DA2-2A1F-42BE-9DF6-097E63E0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87E-C976-421D-AEF2-16871F3D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565-EE52-4C04-98BB-939536D7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6A0-113A-428E-99FE-713F9092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CB4-FFFD-4764-B4F8-1F3E7FFD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FCE-5873-42F2-86B4-D29512A1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C0E-0F7E-4DCD-AF32-50637AB1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CC3-C9F6-4FF1-B63A-7A18203E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7BD-5FFF-4EF8-ACA9-25A828B2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6CC-682B-4C09-8786-B326114F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348C0-D36E-468A-8DF7-288175B345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