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85242"/>
        <c:axId val="53392386"/>
      </c:barChart>
      <c:catAx>
        <c:axId val="11885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92386"/>
        <c:crosses val="autoZero"/>
        <c:auto val="1"/>
        <c:lblAlgn val="ctr"/>
        <c:lblOffset val="100"/>
        <c:noMultiLvlLbl val="0"/>
      </c:catAx>
      <c:valAx>
        <c:axId val="53392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85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1D4-8C1A-4EFB-B512-F7ECA6C4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1B7-5B00-4111-9BDA-EC28C675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135-28DA-45EB-B7D7-ECEE5B08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40E-4573-48BB-ABA5-26397E1D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70A-0EC0-4672-BB67-10EA1EF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B4E-7FB4-48E6-9A82-BE4781CB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853-7E1B-4125-9197-E4093E4E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34F-D609-488D-BF12-C8278CB6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784-CCF5-421F-9568-E496281D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036-E446-4CC7-ADFE-EED2082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3479-1AD9-48E5-BD4F-85619F1D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4C0-682D-401A-A641-A50BCC1A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76C79-FD7F-4023-8288-631226646D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