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264046"/>
        <c:axId val="33963804"/>
      </c:barChart>
      <c:catAx>
        <c:axId val="772640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963804"/>
        <c:crosses val="autoZero"/>
        <c:auto val="1"/>
        <c:lblAlgn val="ctr"/>
        <c:lblOffset val="100"/>
        <c:noMultiLvlLbl val="0"/>
      </c:catAx>
      <c:valAx>
        <c:axId val="339638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640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5E65-9A48-40F0-B125-0671762A8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E44E-5AB0-4F04-9A5A-6BC46B45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30AE-4639-4CA0-B283-995224B9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26A6-00E4-43B9-A99E-CA39222A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43DC-FA4A-4EFF-A319-7380D55F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7F7A-B638-4D17-ABB2-9ED5DE6B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DF9-346A-4B38-9E83-5594C544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D697-E7C3-45D0-A42B-8BEB2C8D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A85-45CE-4C04-AD42-428C9F49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6FB4-C177-4010-905A-4F380355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C00-1644-4303-BE38-E1B544B6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FBD7-24AC-4D96-83C4-CDB5E8F6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AD358-929D-4372-9C59-E7A3A585F6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