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640459"/>
        <c:axId val="81019510"/>
      </c:barChart>
      <c:catAx>
        <c:axId val="466404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019510"/>
        <c:crosses val="autoZero"/>
        <c:auto val="1"/>
        <c:lblAlgn val="ctr"/>
        <c:lblOffset val="100"/>
        <c:noMultiLvlLbl val="0"/>
      </c:catAx>
      <c:valAx>
        <c:axId val="810195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6404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4F9C-A1FD-4569-82C4-41AE666B6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5D35-D3ED-428D-B7E8-0636CEC32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3B6A-EE47-4F63-925D-D89C1AD72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6D2C-E30F-4D2F-BBB0-42BC2F4AB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70A7-FF7B-4E7A-86AB-37E0F1D10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100C-7E5B-4778-8370-8B7194B7C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89F0-AC03-4FA3-9A9E-1F08BCB5C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03A5-778A-4991-96E8-884C23661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3C0B-D909-46A1-B201-D311D1B9F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F800-F3DC-44A7-B525-3B63056E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3BAD-8A46-422B-BF28-4E370E8B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A39E-3B5B-4601-BC9C-96BB34C6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0263FB-0BF3-4CC7-BD87-CFA2CC118E0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