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01838"/>
        <c:axId val="3844618"/>
      </c:barChart>
      <c:catAx>
        <c:axId val="81301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4618"/>
        <c:crosses val="autoZero"/>
        <c:auto val="1"/>
        <c:lblAlgn val="ctr"/>
        <c:lblOffset val="100"/>
        <c:noMultiLvlLbl val="0"/>
      </c:catAx>
      <c:valAx>
        <c:axId val="3844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01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723-995E-4A97-8B8D-E50D1425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A76-3318-4147-BF40-D6FABE9B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4E1-C60B-4122-8774-C583CE1A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406-852A-45ED-9782-0317DC5C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9C2-79EF-4DB9-A524-D387C65B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C45-A121-4964-BE11-962F07A3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80A-7DE8-4BF3-A36A-EA6C6D2F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161-3A1B-42DC-841A-9804B046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E48-1627-45C1-854B-07BDEA3E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49E0-D129-4DEF-9997-71885604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CCC-132C-4E09-8AD1-E60EEF4A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C3E-F527-4B6D-916E-8ED97FF3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115D4-F9C1-4FB0-B2F2-DB0359BB82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