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26140"/>
        <c:axId val="95898741"/>
      </c:barChart>
      <c:catAx>
        <c:axId val="10826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8741"/>
        <c:crosses val="autoZero"/>
        <c:auto val="1"/>
        <c:lblAlgn val="ctr"/>
        <c:lblOffset val="100"/>
        <c:noMultiLvlLbl val="0"/>
      </c:catAx>
      <c:valAx>
        <c:axId val="95898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26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C40-92A5-46A8-A391-7EB12030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FA4-8C76-4AF7-8D5E-BC1809DC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B0D-F1CD-47EE-8A58-3BD75563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3E2-E10F-4FB9-8CF5-333669C0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0ED-4EA3-4FA8-A8DA-13DFDC8E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D45-C69A-45FE-8113-7D27CA12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A72-F5B1-47C8-897D-FFA7CD91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85F-5568-443C-873E-BE98F4C3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CA6-33DB-4F78-A0A4-E66F7BFD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EEC-2F09-485D-8056-FF396451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B73-F068-4081-97E8-3B48A8A9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8D4-D078-4358-B63A-C25D0AE7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08850-B731-439B-8D92-8E8CDD3381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