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05633"/>
        <c:axId val="43750243"/>
      </c:barChart>
      <c:catAx>
        <c:axId val="97705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0243"/>
        <c:crosses val="autoZero"/>
        <c:auto val="1"/>
        <c:lblAlgn val="ctr"/>
        <c:lblOffset val="100"/>
        <c:noMultiLvlLbl val="0"/>
      </c:catAx>
      <c:valAx>
        <c:axId val="43750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05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69B-6132-450F-B606-C2AACEB4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02C-4F4D-4B7E-883D-C65E3775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C3E-4B0A-4083-ADC3-63BB68EC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ECE-735B-4BA9-8074-C3D19471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436-2C50-491D-970D-AA298C9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A79-5582-4B1D-8818-6576DBB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AF3-BDFD-4833-8DD9-688B3C8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FF4-6C16-4A5A-ABD9-BFE2DCBC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FCF-C571-4233-AD37-83356127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4E5-ECDA-405E-AC87-36EB501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4C3-0DD2-49EC-8323-4F21F75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D68-75AE-4211-A084-64BE8B9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6B65C-A2EC-4043-8D2A-C3251FA66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