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208240"/>
        <c:axId val="70409086"/>
      </c:barChart>
      <c:catAx>
        <c:axId val="21208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09086"/>
        <c:crosses val="autoZero"/>
        <c:auto val="1"/>
        <c:lblAlgn val="ctr"/>
        <c:lblOffset val="100"/>
        <c:noMultiLvlLbl val="0"/>
      </c:catAx>
      <c:valAx>
        <c:axId val="70409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08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0BF-20E6-44F9-A301-D62BC842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8B0-F52B-4947-934C-6C35A33E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599D-9453-4692-8918-44675613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F2C-B34F-4ADF-AD46-9C4F12DB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C6D5-4EC1-43D6-9013-30A3704C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C7E-DAF2-4FA6-AA9B-52462DA9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D76D-1C78-4AD8-8448-C8F78456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2BE-9498-4AEE-B241-1602CDC2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794-1986-4FF7-A90C-3D0390DC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77F-1257-4915-89D1-F0062EF1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714-3943-44C6-8B65-3C4EE35C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55B-C4B4-43CD-9CA2-8A6982D6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76EAB-5574-45EE-A88F-AFE8501996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