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4130"/>
        <c:axId val="61593988"/>
      </c:barChart>
      <c:catAx>
        <c:axId val="6774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3988"/>
        <c:crosses val="autoZero"/>
        <c:auto val="1"/>
        <c:lblAlgn val="ctr"/>
        <c:lblOffset val="100"/>
        <c:noMultiLvlLbl val="0"/>
      </c:catAx>
      <c:valAx>
        <c:axId val="61593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4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132-1BFB-426F-9E80-5715A21B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F68-0BDF-4654-8D00-1CC5A3A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97F-A5F5-413D-8E48-24C65D7B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E1D-318E-4919-BF9E-3E399B72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591-3C69-4401-9192-622D91E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3C7-EDFC-4C6C-8454-E7D3DD7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DA-5943-413E-98AF-19592EE2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E8F-81E3-4BCC-94A9-F3FA28B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BEA-A71F-40B8-972B-78FEE47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7CD-405A-4AC0-8D04-FE5675C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260-9CB9-4B76-B16A-605853F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D06-7554-4BCE-9FC1-BC8D460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97CE5-E721-4603-9902-D9E0A180E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