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04987"/>
        <c:axId val="37575793"/>
      </c:barChart>
      <c:catAx>
        <c:axId val="48504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75793"/>
        <c:crosses val="autoZero"/>
        <c:auto val="1"/>
        <c:lblAlgn val="ctr"/>
        <c:lblOffset val="100"/>
        <c:noMultiLvlLbl val="0"/>
      </c:catAx>
      <c:valAx>
        <c:axId val="37575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04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3BD-99FC-49A0-8E74-2243A0FE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001-276A-406B-8223-086CE322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247-2DB5-41A9-A960-23329E18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683-8A20-4BD9-B723-ED35B6A3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D0D-A22D-429C-9A03-26A8AF9B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235-4997-412A-BD8E-88D5014A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487-DB20-4729-A34C-1C652508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F39-0D32-4912-B7ED-13272F9B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1D1-C877-44F4-888A-E8852EB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837-060B-4846-8B91-B12F3856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F80-7110-474E-B6E5-8614917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250-AF13-4775-9F20-C1DF6D6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0CBEE-A13E-4C5A-9BD6-833B3453E5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