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96901"/>
        <c:axId val="88223620"/>
      </c:barChart>
      <c:catAx>
        <c:axId val="323969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23620"/>
        <c:crosses val="autoZero"/>
        <c:auto val="1"/>
        <c:lblAlgn val="ctr"/>
        <c:lblOffset val="100"/>
        <c:noMultiLvlLbl val="0"/>
      </c:catAx>
      <c:valAx>
        <c:axId val="882236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96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1C9-1FF5-4BF3-96D8-BF0E7758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8F2-80BE-49AC-9F34-C9958D8E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60C-0A6A-44AB-BB37-AA372F33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E06C-ED8D-4F10-BA21-0B975525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DFD5-D9E4-4B03-B507-10411534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AAF-BFBC-4778-816F-6196F7E8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CF6-578F-430C-9451-70E40A3B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C834-4041-43DB-87FF-6DD0ED24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B5C-9867-472C-A099-68DDC667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284-AC90-4190-8124-CF5F1A46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1AF3-CF1C-4007-A15C-CBDB8D26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B48-CAEB-486E-AFA2-4D9DEB57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516AF-2572-42A2-91E0-A9E028693A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