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955761"/>
        <c:axId val="14586827"/>
      </c:barChart>
      <c:catAx>
        <c:axId val="949557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586827"/>
        <c:crosses val="autoZero"/>
        <c:auto val="1"/>
        <c:lblAlgn val="ctr"/>
        <c:lblOffset val="100"/>
        <c:noMultiLvlLbl val="0"/>
      </c:catAx>
      <c:valAx>
        <c:axId val="145868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9557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2FD0-B7A5-4813-B865-392E7C2FA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C583-7960-4112-BDE7-97C04FB0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6A31-3B91-4F36-85A7-574BD3958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161D-720C-4F43-929D-2199DCE23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DD9F-AC80-4974-BFE3-68FA80C3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D0D4-D7CA-467E-8E4B-8BE6E23D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66A6-2440-4125-A880-D86E8E5B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25E6-C758-401F-8602-4E9DE1EC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1746-5145-4D2B-AE1A-5ADF34FA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D729-77DC-447F-9963-03CF2526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1A0A-2E42-4081-BCC7-56BF924D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7657-6FF8-4858-B070-1753479A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B8D2EF-D438-46E7-AF64-D02FC6217B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