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55139"/>
        <c:axId val="21460743"/>
      </c:barChart>
      <c:catAx>
        <c:axId val="43055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60743"/>
        <c:crosses val="autoZero"/>
        <c:auto val="1"/>
        <c:lblAlgn val="ctr"/>
        <c:lblOffset val="100"/>
        <c:noMultiLvlLbl val="0"/>
      </c:catAx>
      <c:valAx>
        <c:axId val="21460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55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D214-F6A3-4A31-9325-E9BFBEA9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9CE-106D-4143-A19C-55BB762C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4FB-4748-4E5A-9288-5BF6A66F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804-EEFD-448E-94D0-60B69900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E9B-F071-406A-9589-03C64DDE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9400-BBDF-49D2-98BB-049606C9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D10-B947-441E-A91F-B8FED6AB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E5E-6E29-4A1F-9240-EFBFE0DA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8D2-C4C8-4C9F-9F82-90EC7C26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F118-1D0D-4DC4-AE9E-8F9A249C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16E9-0879-4588-992D-F9B79346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1F89-483B-4CC9-B3D0-2E8D08EA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10B1C-D827-409A-A2C3-08F996B4F0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