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17318"/>
        <c:axId val="23980499"/>
      </c:barChart>
      <c:catAx>
        <c:axId val="97417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80499"/>
        <c:crosses val="autoZero"/>
        <c:auto val="1"/>
        <c:lblAlgn val="ctr"/>
        <c:lblOffset val="100"/>
        <c:noMultiLvlLbl val="0"/>
      </c:catAx>
      <c:valAx>
        <c:axId val="23980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17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10D-9E09-407D-9B7D-4937A125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835-ED9D-4B20-858A-412F6C35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D7D-649F-41AF-99DF-066AEFBB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608-7D00-4C3D-B088-6E6DE987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3B0-80BB-4D99-852B-F23A736D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C21-C451-4D51-9A2E-B686C434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C9A-E932-44C3-B8C4-A023C343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D1E-C483-4D9F-9196-736D3E8A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B2B-4F70-4398-B51B-B898E0E4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746-CD66-4679-88D4-33C2688E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C5C-3778-4F00-932C-863D1D55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209-0CC1-4C5C-B19E-74C0354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C466E-F733-4086-918B-8C46483C61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