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4065"/>
        <c:axId val="21328255"/>
      </c:barChart>
      <c:catAx>
        <c:axId val="805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8255"/>
        <c:crosses val="autoZero"/>
        <c:auto val="1"/>
        <c:lblAlgn val="ctr"/>
        <c:lblOffset val="100"/>
        <c:noMultiLvlLbl val="0"/>
      </c:catAx>
      <c:valAx>
        <c:axId val="21328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E5F-CDA7-4643-9972-B7FD47C6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D33-C453-418A-9CBD-736BA2F9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839-287E-49EB-AAC3-0DE0F058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F36-70C9-4309-99A1-F58EFA41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792-2FBA-4472-82E2-40FAD820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EF7-1A9D-42B8-ACCF-878411A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CFD-33B4-4B05-810D-D5FBE07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122-9AE2-4B85-8010-D2FCD11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81E-F2D3-486A-BC42-D979E3C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9E9-880A-4768-89BD-3434C27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86E-5E10-465B-A210-322BBD6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5EC-D9AC-425B-9CA2-F88D329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AF55E-68A4-4FB1-916C-3B625741F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