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38354"/>
        <c:axId val="78125055"/>
      </c:barChart>
      <c:catAx>
        <c:axId val="54738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25055"/>
        <c:crosses val="autoZero"/>
        <c:auto val="1"/>
        <c:lblAlgn val="ctr"/>
        <c:lblOffset val="100"/>
        <c:noMultiLvlLbl val="0"/>
      </c:catAx>
      <c:valAx>
        <c:axId val="78125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38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986-C327-4FB2-804C-F85B3CD9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C84-AC1C-49BA-A003-3313F28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4B6-E356-4CA6-BB69-022DD913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7C7-34B4-4727-9981-6B0151F4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778-6027-4F9B-858C-90CDAF28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092-165A-414D-8418-CEC4999B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192-6BEC-40DA-8E07-379992C4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AF4-C035-408D-82F8-33171430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B49-4650-4B5B-989E-676481C2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755-7D90-45C9-B08E-DD034DD7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1A6-F2EB-409E-89E8-186285F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084-877E-42AD-AE19-C89F509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875F4-95B4-4D3F-86EF-5B134BBC23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