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3811303"/>
        <c:axId val="34121765"/>
      </c:barChart>
      <c:catAx>
        <c:axId val="2381130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121765"/>
        <c:crosses val="autoZero"/>
        <c:auto val="1"/>
        <c:lblAlgn val="ctr"/>
        <c:lblOffset val="100"/>
        <c:noMultiLvlLbl val="0"/>
      </c:catAx>
      <c:valAx>
        <c:axId val="3412176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81130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E3A73-FA8F-4B65-AC97-928F664C0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56A14-54A1-4204-9510-503A458AB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7D459-1A9C-44DC-91BB-CC38C1FAE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3AB8D-25D7-4168-984C-326075E7E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E98ED-0D37-4B54-A0ED-95A13441D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1178D-ED95-4034-82AC-6D06CF61A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5BF93-305E-46AC-BE47-B06FCE362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4DC8A-5129-45D3-A55F-67A3D1A10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0E30E-5BCD-4F2B-BC34-BF0CBBBFF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48619-B28D-43F6-9132-B03313EF9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199BB-821F-4C9F-9B86-3F0D52E57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CE16A-19CD-4B20-81E7-B15E86CE7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E6FCA5-EF53-4048-A809-B52A10181F2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