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54148"/>
        <c:axId val="83949802"/>
      </c:barChart>
      <c:catAx>
        <c:axId val="72954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9802"/>
        <c:crosses val="autoZero"/>
        <c:auto val="1"/>
        <c:lblAlgn val="ctr"/>
        <c:lblOffset val="100"/>
        <c:noMultiLvlLbl val="0"/>
      </c:catAx>
      <c:valAx>
        <c:axId val="83949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54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CEC-A15D-4CA8-AA00-2C3B281C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AD3-B738-474F-AB9E-6135FEDA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0B9-2DC3-416B-9D6C-0F4DEC46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704-D917-4839-95D3-BCF32BDE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081-7609-4151-821C-BF9EC36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6E5-6641-465A-888C-D26831D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E15-9E89-40A7-B15C-1B92754F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6ED-F72C-4905-BD1E-00B8398E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CE8-9191-43AD-85E5-40A82EE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3FD-66A3-4EF2-9BC3-900E0388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0EC-3165-4205-9C65-5894658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C3A-312D-4B5B-88B3-DCD3540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F7DA2-647D-4246-8E4F-488E54B2D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