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359186"/>
        <c:axId val="27459834"/>
      </c:barChart>
      <c:catAx>
        <c:axId val="303591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59834"/>
        <c:crosses val="autoZero"/>
        <c:auto val="1"/>
        <c:lblAlgn val="ctr"/>
        <c:lblOffset val="100"/>
        <c:noMultiLvlLbl val="0"/>
      </c:catAx>
      <c:valAx>
        <c:axId val="27459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591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D091-33A5-45CF-B347-29259764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AE2-3929-450D-8894-513A3567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B23-5117-459A-BB10-0FB40302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AEA6-7478-445F-B8F5-1C185616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EDC1-2986-464F-9811-2520055C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8F9B-58D4-41C5-B8D9-7BA0948E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B90F-EB11-49C5-8A7D-7192CED3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CED6-FB4A-412A-8D1C-76A2779E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5D56-9B8F-4CC7-9964-FB6E493D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7B28-FE8A-42FE-AD6D-04909930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CB50-99BF-4F99-A974-58138FAD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2D81-0E3E-4F75-B1F7-20DB0F1C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3868D-65A0-4F3A-B6EA-5F7795FEE0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