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86410"/>
        <c:axId val="77071868"/>
      </c:barChart>
      <c:catAx>
        <c:axId val="50586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71868"/>
        <c:crosses val="autoZero"/>
        <c:auto val="1"/>
        <c:lblAlgn val="ctr"/>
        <c:lblOffset val="100"/>
        <c:noMultiLvlLbl val="0"/>
      </c:catAx>
      <c:valAx>
        <c:axId val="77071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86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1B5-28E2-4728-B9E1-68D932F7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CD5-919F-4384-B5EA-2D1AC33B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4D5-CD01-44A2-A522-55400987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C8C-C73D-489D-AB2E-93B15918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B07-51DC-4989-98F9-DD4D21C7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CCF-65F7-4259-86C0-9826BD09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C91-9763-482A-8DD5-C4BAD451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9D7-0A38-40C1-9685-7F9EF80A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C97-B3AC-4871-A4D6-578918E8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BDC-CA2F-40FB-870D-7D4E903C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65A-8911-4746-9E33-82E8920B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618-C5A1-4701-9500-1397C37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53578-CA0E-4865-9E61-291095AD24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