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31646"/>
        <c:axId val="13825155"/>
      </c:barChart>
      <c:catAx>
        <c:axId val="58031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25155"/>
        <c:crosses val="autoZero"/>
        <c:auto val="1"/>
        <c:lblAlgn val="ctr"/>
        <c:lblOffset val="100"/>
        <c:noMultiLvlLbl val="0"/>
      </c:catAx>
      <c:valAx>
        <c:axId val="13825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31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803-A514-4FD2-ABA4-9C44335A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E2C-0257-4247-B345-B5A26A6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E1E-683E-473C-92E8-210463CC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2CA-3393-4A95-B471-4E7937D2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6E8-40C3-4A46-B741-BD987D88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F6F-E035-4586-A9F3-C1FE389E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7B0-FB61-462B-B31C-13ED843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AD1-5A32-47C0-BADC-2ECDB16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290-E712-48F0-B1D7-8B7A586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173-02A3-45A5-9B53-01B5EBC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821-0C2F-43FC-A659-6F73C8A9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C59-2B20-4D39-873F-F7A664E4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0CFC5-0769-4665-B02F-2160DC61F3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