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870656"/>
        <c:axId val="13607902"/>
      </c:barChart>
      <c:catAx>
        <c:axId val="668706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607902"/>
        <c:crosses val="autoZero"/>
        <c:auto val="1"/>
        <c:lblAlgn val="ctr"/>
        <c:lblOffset val="100"/>
        <c:noMultiLvlLbl val="0"/>
      </c:catAx>
      <c:valAx>
        <c:axId val="136079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8706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AC65-B095-4DE6-BC16-3447B26E6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D3EA-B422-419F-9DE6-CF25926EE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0497-9F0E-45C3-89B3-647C0D298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7D61-5107-447B-8727-91742F9A6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52A0-540B-4C00-945C-3A918DD96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BA42-0265-4369-ADAC-75FFAE8A6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D535-B50B-4876-817C-1334E03C4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6ECD-4B6C-4D26-BA6D-3068844B1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D06C-70B1-4592-BC5C-B7BAA0722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66CE-9FFD-4640-8FE7-C3F64093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5EE5-632B-419E-9941-A30CBC090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034E-9EC4-4EFE-97C7-C041A733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15E71D-FD78-4752-8383-2382451B062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