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5071683"/>
        <c:axId val="8796515"/>
      </c:barChart>
      <c:catAx>
        <c:axId val="6507168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96515"/>
        <c:crosses val="autoZero"/>
        <c:auto val="1"/>
        <c:lblAlgn val="ctr"/>
        <c:lblOffset val="100"/>
        <c:noMultiLvlLbl val="0"/>
      </c:catAx>
      <c:valAx>
        <c:axId val="879651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07168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839A5-DFD7-4FB2-9719-784E1BA54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A0515-E2A5-4E84-B4F4-50A4E7705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141CC-BD79-4B74-9130-2EF05DE33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53E8D-B024-44CA-AFF3-CE05D4D6A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5B876-6535-427B-B9D7-8C23845F9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515F2-5127-47F8-AFE9-E7E1865E1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13B0D-BCF2-4698-AA0F-6E975F668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46B4A-30AE-40D8-99C1-AC1AD2797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B706A-E506-49AC-9C98-7BF1529EA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8EFD9-7798-4B3A-8004-BDA42E31A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26D10-3A41-4B79-A75D-AAA9B33A4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8128C-099D-4EDA-8BEA-05B5AF6E7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77B0C9-55EC-4EF3-A14F-8F4B4CAA9C4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