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64333"/>
        <c:axId val="23455623"/>
      </c:barChart>
      <c:catAx>
        <c:axId val="583643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55623"/>
        <c:crosses val="autoZero"/>
        <c:auto val="1"/>
        <c:lblAlgn val="ctr"/>
        <c:lblOffset val="100"/>
        <c:noMultiLvlLbl val="0"/>
      </c:catAx>
      <c:valAx>
        <c:axId val="23455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643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686-0D7F-4012-9A25-64EB82DA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4784-E97A-44E1-B9FC-85B36D68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A0F-48A5-49D2-81F1-FACCC325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C3A-A2F9-4C96-BA74-D330B9D0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64D-E74E-49EA-9E71-B16673A6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CB7-FBA6-4494-8918-B77353A6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258-DA24-42BB-850D-AD24AE59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F97-3569-4040-A4A4-AC3529E8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9F2-18AB-4E19-9DEA-EF51AE03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D8B8-CD22-4F90-A623-CFFCE5B2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EED-4719-4CF2-A0C1-F23B66E6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0448-8B5C-41D0-82C0-BB57B97F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330BE-F41D-43AB-B1BF-98F688FB09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