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946664"/>
        <c:axId val="31020852"/>
      </c:barChart>
      <c:catAx>
        <c:axId val="629466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20852"/>
        <c:crosses val="autoZero"/>
        <c:auto val="1"/>
        <c:lblAlgn val="ctr"/>
        <c:lblOffset val="100"/>
        <c:noMultiLvlLbl val="0"/>
      </c:catAx>
      <c:valAx>
        <c:axId val="310208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466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45E0-AD43-41F6-8F45-05C6CF6A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E737-5563-4205-A556-1DA3F2E6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416D-341F-4915-9589-A98240E8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DCA8-A53F-44E9-8A34-EA1A6F07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FEFB-DB06-4599-A366-EEC4638C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25BF-2720-4DA2-91DD-B8281509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01DB-9C1C-4347-8722-2BBE97FB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676C-AE7E-433F-B529-974851D4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99B3-24D5-4254-ADB7-E3DE46A9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AF98-7C35-47AD-A150-9C1B773F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665-AE77-4AE9-AC37-7709B07E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FE39-CBDD-490F-A3EB-E69416E1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80789-9F4A-4529-9C99-39BB378F7D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