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39148"/>
        <c:axId val="84286643"/>
      </c:barChart>
      <c:catAx>
        <c:axId val="17839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86643"/>
        <c:crosses val="autoZero"/>
        <c:auto val="1"/>
        <c:lblAlgn val="ctr"/>
        <c:lblOffset val="100"/>
        <c:noMultiLvlLbl val="0"/>
      </c:catAx>
      <c:valAx>
        <c:axId val="84286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39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040-685D-4DBF-8ABA-66E9304B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4C4-F5EA-4F2C-8C66-58C8CB03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DC4-A542-40F7-B936-38EF6407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23F-CC50-4CE4-B987-4C467CB5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F2D-BD70-4ADE-AF31-FB77C448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A5D-7D40-47EC-A06C-221A2DA1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9EE-1C92-4DCF-955A-7C145E2B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FEB-76BD-4A42-ABF2-F64C8FD8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F35-BBA9-4739-AF79-B759FFB6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704-8267-4C50-A416-A75FB6D8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4691-6513-4386-876B-BB8B6BB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05C-DAE4-40CF-9A7B-5CE35211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C2881-A853-4E1D-B7EC-E016AA42CB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