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79967"/>
        <c:axId val="37674763"/>
      </c:barChart>
      <c:catAx>
        <c:axId val="34879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74763"/>
        <c:crosses val="autoZero"/>
        <c:auto val="1"/>
        <c:lblAlgn val="ctr"/>
        <c:lblOffset val="100"/>
        <c:noMultiLvlLbl val="0"/>
      </c:catAx>
      <c:valAx>
        <c:axId val="37674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79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55B-5ED0-41EC-921B-86F243B1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61C7-861F-476B-A99C-9092CFA2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6DA7-E9DC-40F0-BE06-17D59B5C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625-F4FA-47DF-AF9F-0CDD0D33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FDFA-11AB-4AA3-BC52-153D49DE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9E68-A978-4B60-8E1A-965137D8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123E-8D02-4119-A6F4-A12DFA71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195-E52E-47B9-A237-4FFD8A78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0702-241A-47D5-8918-E1B4496C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2E0E-A904-4C6C-A630-69BE193C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A15-5D7E-4DB5-8A20-1CEBB1BF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342-2DF8-4F75-9CA9-FFB5E2E8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B06FE-E2F9-4EC1-8846-6BA1282B51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