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010472"/>
        <c:axId val="25588983"/>
      </c:barChart>
      <c:catAx>
        <c:axId val="610104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588983"/>
        <c:crosses val="autoZero"/>
        <c:auto val="1"/>
        <c:lblAlgn val="ctr"/>
        <c:lblOffset val="100"/>
        <c:noMultiLvlLbl val="0"/>
      </c:catAx>
      <c:valAx>
        <c:axId val="255889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0104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A1D4-85E8-4F38-B332-AFE4078A5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B240-5E0D-42EC-91DE-83B7CCBF1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05CF-4AD5-4658-8037-7FF5BDA05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5FB63-61F0-45D8-8CFE-B46F91331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808E-4711-4D5F-84A0-0024BAD01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93A5-5B0F-41F6-ABF6-16A179A50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276D-B355-4B10-BC29-006EEF9D8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1C89-A71F-4940-96F9-24416F9DC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C733-F902-4D29-A6ED-5372F94C4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6124-1F0B-4E35-BC29-D59CFA98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18C6-BDDC-4028-A7A2-FE0D8C7A2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C8237-9DF8-437D-9F29-15E1AD31C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0D0674-ED93-4DA6-A5B0-7B77EC51091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