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14461"/>
        <c:axId val="87207497"/>
      </c:barChart>
      <c:catAx>
        <c:axId val="67214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07497"/>
        <c:crosses val="autoZero"/>
        <c:auto val="1"/>
        <c:lblAlgn val="ctr"/>
        <c:lblOffset val="100"/>
        <c:noMultiLvlLbl val="0"/>
      </c:catAx>
      <c:valAx>
        <c:axId val="87207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14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B0B4-58C4-4B50-94D9-AFA1F759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284-2C30-41E3-81C8-1252FCA8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CCC-CE2D-4703-9753-4F1E5E54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284-0A65-4AF7-A7C3-BDA4A45C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DD7-224B-4EDD-8ECB-0033D654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257-BA7A-49F2-A412-6EA05DB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C46-5B60-4167-852B-491A239D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3A9-6F0B-434D-952A-A046CE72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B9D-2D61-43BD-8F20-9BB26E88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A66-0984-4339-9A93-DB3C69EC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D56-41F7-45AF-B24E-F7547A6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1F3-6C52-43E2-9A40-A3FFC8F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F32A5-8D4B-44AE-89AB-02FAD4D25E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