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477226"/>
        <c:axId val="33853576"/>
      </c:barChart>
      <c:catAx>
        <c:axId val="32477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53576"/>
        <c:crosses val="autoZero"/>
        <c:auto val="1"/>
        <c:lblAlgn val="ctr"/>
        <c:lblOffset val="100"/>
        <c:noMultiLvlLbl val="0"/>
      </c:catAx>
      <c:valAx>
        <c:axId val="338535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77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4BB-A5E2-4931-ADF7-BA4CAF9C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747-B78C-4668-89D4-3F2462F9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FEA-E51D-4780-BCD1-ACF0BF11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2B28-2AD2-40A6-98C8-A378A5CF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5F90-4252-4B9C-90CA-2B2CDF27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FE9-C766-467C-9506-7F06124E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CF4-B4F8-43DF-B244-EED8E211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2AA-8917-4FEF-B732-B7C40AD1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3B50-F71F-4517-8A1F-D9165DE0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0691-F801-49FD-9959-D6C2566E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D5F7-79CD-414E-8E40-7074D78F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FB5-90C0-47B3-86F9-23373E04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2A589-C336-47B5-9167-0979F70EA0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