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07660"/>
        <c:axId val="16450182"/>
      </c:barChart>
      <c:catAx>
        <c:axId val="83807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50182"/>
        <c:crosses val="autoZero"/>
        <c:auto val="1"/>
        <c:lblAlgn val="ctr"/>
        <c:lblOffset val="100"/>
        <c:noMultiLvlLbl val="0"/>
      </c:catAx>
      <c:valAx>
        <c:axId val="16450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7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597-1193-4427-826E-6DB39FA6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986-8FD1-4596-9F0E-2C5A382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6C8-FF29-4CFC-AB98-C15B8B76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B05-9459-4F5D-8EBD-8AD6C12E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B73-28E0-4969-AA1C-95B1C655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2AF-80F9-4B60-ADC8-84139354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FA4-8FDE-4AED-8825-9C9E87F7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C30-C535-4B10-968E-D8776F9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C56-21DA-4B77-B8BD-D66F38F2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386-36B2-4081-AC49-0D15ED21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498-AD93-496C-BC88-8933002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B81-CC2D-4974-BE81-EB33101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F5937-3C5B-4A9B-BEC3-DF5C5F065C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