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901669"/>
        <c:axId val="50000017"/>
      </c:barChart>
      <c:catAx>
        <c:axId val="619016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000017"/>
        <c:crosses val="autoZero"/>
        <c:auto val="1"/>
        <c:lblAlgn val="ctr"/>
        <c:lblOffset val="100"/>
        <c:noMultiLvlLbl val="0"/>
      </c:catAx>
      <c:valAx>
        <c:axId val="500000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9016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377D-06E2-4E61-9692-3C734B430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418D-9D26-417D-83E5-2BAF61D3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969A-E1E2-4625-8987-ECFA2C7C7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BC0D-79C3-4278-86D5-EE1369453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EABA-2F81-4EFE-ACE0-A30161BD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2ECD-6421-49D6-BCAE-A907FC3C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8A1D-67EF-4EDD-97C9-A76CF39D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D741-07A0-4AC8-9D5E-9CD5DC94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7E72-2415-4966-827E-95AC0F56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6537-47A2-4D3A-A2D0-63637A1C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B085-6132-4083-BC9D-CCEE14D8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C425-F456-4D5A-83BA-4AB4EC72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88728-3547-43AB-B2DB-1362C24343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