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71971"/>
        <c:axId val="29783005"/>
      </c:barChart>
      <c:catAx>
        <c:axId val="44371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83005"/>
        <c:crosses val="autoZero"/>
        <c:auto val="1"/>
        <c:lblAlgn val="ctr"/>
        <c:lblOffset val="100"/>
        <c:noMultiLvlLbl val="0"/>
      </c:catAx>
      <c:valAx>
        <c:axId val="29783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71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961-E8F0-4BC0-8FAC-1B777B0F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4D3-EFD8-4675-94C6-1CA8674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89D-4D8E-4F4E-AFF0-B6075649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ACE-583A-4059-AC7F-B1DD0E4D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32B-B3DE-4303-9692-C8E88E2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474-ACCB-4738-9824-4B897DF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4D0-B2A9-4DD1-953A-ACBC9D5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DD9-B4E8-40E5-ABC3-F529B741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113-EF8C-4567-8851-86A70C32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0EC-153B-4D68-87C7-A2C0E12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A3B-8967-4881-983B-94C0685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211-3337-4E04-A3F6-3D983CA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EE942-E500-4F24-9949-2216F5ECE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