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27520"/>
        <c:axId val="4386299"/>
      </c:barChart>
      <c:catAx>
        <c:axId val="16827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6299"/>
        <c:crosses val="autoZero"/>
        <c:auto val="1"/>
        <c:lblAlgn val="ctr"/>
        <c:lblOffset val="100"/>
        <c:noMultiLvlLbl val="0"/>
      </c:catAx>
      <c:valAx>
        <c:axId val="4386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27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6A9-BC5A-43E7-B103-F16D0DC9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F9E-F163-47CB-8018-76A398D4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55B-19B1-4A27-900F-CD6E1959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98A-3245-41A7-9C45-8151772E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A04-E22E-4655-9CC4-DF6AD4A5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7A4-90E7-49E5-8F49-BE872EA5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88C-5CFF-4EA6-A2B6-84CFFEF0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67C-E108-4F79-887E-69EC648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5F9-CFD9-461F-BDE5-4526E24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507-D5D2-4FBB-A359-A3681DAB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397-1962-40C9-B555-138F0E4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065-5791-4219-A1D0-DC90F12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ECAC1-D8BE-4BE6-B740-2915C15676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